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C793-B3BE-4797-A991-30859F55A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C703-8068-4CF7-90E5-6B037DBAA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F2AF-D8E7-48BC-8E4C-D367F6623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8EE1-109A-4DE1-86D6-CA0254F7F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6E0621-3A67-4B19-8134-2904778A9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AE1035-7653-4E9C-A982-9139EB379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EC1DE2-D5C7-4308-9DFB-66A21967A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CCEBB4-7680-4B8E-8069-596B25411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1F3545-DF12-4D54-9CB2-40B80DA4E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460CAB-ABBF-4146-AA44-2EEE3A9EE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A1AB80-DA75-4EB3-87D5-5B08799E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B24B-3A74-415A-80CB-F2797605F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3218D0-A0B2-4154-A623-2533FA06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6BECD6-D544-4E53-8CB4-E57D504C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631969-3382-4837-BDCF-FD9061F4E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15535A-FCA4-4B07-95AE-F34C925D5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BF66A8-FF65-4028-B5F3-B3F58FB02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BC1D-AB85-400D-82F8-E77D5B06B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5A0C-687B-4ED0-813C-64E3B9B6F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514A-B347-4A20-AEE0-A5ACD14D1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5230-DE44-4825-A79F-9D8B9B854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37D9-F219-4E3D-88A8-D71EA3D9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30C1-8150-4CD9-9513-48FFB279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EB43-0864-4AAD-9A25-1D15CD51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5780A-012D-4858-A40D-E2C3A3946A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DE3BA-EDAB-4776-9597-53CCC29DCE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29.jpeg"/><Relationship Id="rId4" Type="http://schemas.openxmlformats.org/officeDocument/2006/relationships/image" Target="../media/image17.jpeg"/><Relationship Id="rId5" Type="http://schemas.openxmlformats.org/officeDocument/2006/relationships/image" Target="../media/image21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24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r>
              <a:rPr b="0" lang="en-US" sz="6600" spc="-1" strike="noStrike">
                <a:solidFill>
                  <a:srgbClr val="ffcc00"/>
                </a:solidFill>
                <a:latin typeface="Tunga"/>
              </a:rPr>
              <a:t>Зразки виробів </a:t>
            </a:r>
            <a:br>
              <a:rPr sz="6600"/>
            </a:br>
            <a:r>
              <a:rPr b="0" lang="en-US" sz="6600" spc="-1" strike="noStrike">
                <a:solidFill>
                  <a:srgbClr val="ffcc00"/>
                </a:solidFill>
                <a:latin typeface="Tunga"/>
              </a:rPr>
              <a:t>виготовлених технікою ажурного випилювання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837297288" descr="http://remeslo.ucoz.ua/_ph/1/2/83729728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  <p:transition advTm="5000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il_fi" descr="http://remeslo.ucoz.ua/_ph/1/2/605981540.jpg"/>
          <p:cNvPicPr/>
          <p:nvPr/>
        </p:nvPicPr>
        <p:blipFill>
          <a:blip r:embed="rId2"/>
          <a:stretch/>
        </p:blipFill>
        <p:spPr>
          <a:xfrm>
            <a:off x="0" y="0"/>
            <a:ext cx="9396360" cy="71010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  <p:transition advTm="5000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  <p:transition advTm="5000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470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  <p:transition advTm="5000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  <p:transition advTm="5000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il_fi" descr="http://terpug.at.ua/_ph/90/2/7589800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9660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  <p:transition advTm="6000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il_fi" descr="http://i074.radikal.ru/1103/81/c4838a2bef56.jpg"/>
          <p:cNvPicPr/>
          <p:nvPr/>
        </p:nvPicPr>
        <p:blipFill>
          <a:blip r:embed="rId2"/>
          <a:stretch/>
        </p:blipFill>
        <p:spPr>
          <a:xfrm>
            <a:off x="0" y="0"/>
            <a:ext cx="9202680" cy="690228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  <p:transition advTm="5000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415340378" descr="http://remeslo.ucoz.ua/_ph/1/2/41534037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  <p:transition advTm="5000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il_fi" descr="http://pics.livejournal.com/desant_lviv/pic/00007azy/s640x48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  <p:transition advTm="5000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il_fi" descr="http://pics.livejournal.com/desant_lviv/pic/000057pe/s640x480"/>
          <p:cNvPicPr/>
          <p:nvPr/>
        </p:nvPicPr>
        <p:blipFill>
          <a:blip r:embed="rId2"/>
          <a:stretch/>
        </p:blipFill>
        <p:spPr>
          <a:xfrm>
            <a:off x="0" y="0"/>
            <a:ext cx="4995720" cy="68580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113" name="p995648855" descr="http://remeslo.ucoz.ua/_ph/1/2/995648855.jpg"/>
          <p:cNvPicPr/>
          <p:nvPr/>
        </p:nvPicPr>
        <p:blipFill>
          <a:blip r:embed="rId3"/>
          <a:stretch/>
        </p:blipFill>
        <p:spPr>
          <a:xfrm>
            <a:off x="4476600" y="0"/>
            <a:ext cx="4667400" cy="68580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  <p:transition advTm="5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За допомогою ажурного випилювання можна виготовити або оздобити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42920" y="227664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екоративні світильни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лички для квіті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аз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шкатул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ерветниці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іграшки-сувенір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амки для карти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орпуси для годинникі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ізноманітні прикрас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Рисунок 1" descr="http://t3.gstatic.com/images?q=tbn:ANd9GcSmr-Xe4O5GcTJyFb4SPM8EHfCj8DlZP-3ZhmnKAiVGxkOLeS3r"/>
          <p:cNvPicPr/>
          <p:nvPr/>
        </p:nvPicPr>
        <p:blipFill>
          <a:blip r:embed="rId2"/>
          <a:stretch/>
        </p:blipFill>
        <p:spPr>
          <a:xfrm>
            <a:off x="684360" y="2492280"/>
            <a:ext cx="3465360" cy="3821040"/>
          </a:xfrm>
          <a:prstGeom prst="rect">
            <a:avLst/>
          </a:prstGeom>
          <a:ln w="0">
            <a:noFill/>
          </a:ln>
        </p:spPr>
      </p:pic>
    </p:spTree>
  </p:cSld>
  <p:transition advTm="21000">
    <p:comb dir="horz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8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l_fi" descr="http://www.khutor.net/uploads/images/00/00/56/2011/05/11/05f687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  <p:transition advTm="5000">
    <p:pull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5400" spc="-1" strike="noStrike">
                <a:solidFill>
                  <a:srgbClr val="ffcc00"/>
                </a:solidFill>
                <a:latin typeface="Tahoma"/>
              </a:rPr>
              <a:t>Творіть – це ж так чудово !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291054645" descr="http://remeslo.ucoz.ua/_ph/1/2/291054645.jpg"/>
          <p:cNvPicPr/>
          <p:nvPr/>
        </p:nvPicPr>
        <p:blipFill>
          <a:blip r:embed="rId2"/>
          <a:stretch/>
        </p:blipFill>
        <p:spPr>
          <a:xfrm>
            <a:off x="179280" y="2276640"/>
            <a:ext cx="2635200" cy="1981080"/>
          </a:xfrm>
          <a:prstGeom prst="rect">
            <a:avLst/>
          </a:prstGeom>
          <a:ln w="25560">
            <a:solidFill>
              <a:srgbClr val="cc6600"/>
            </a:solidFill>
            <a:miter/>
          </a:ln>
        </p:spPr>
      </p:pic>
      <p:pic>
        <p:nvPicPr>
          <p:cNvPr id="118" name="rg_hi" descr="http://t0.gstatic.com/images?q=tbn:ANd9GcROUvkLOuPmwYpevLoOtrE6mlrCUZhNrpt25tSR6J6GelaIfggMjA"/>
          <p:cNvPicPr/>
          <p:nvPr/>
        </p:nvPicPr>
        <p:blipFill>
          <a:blip r:embed="rId3"/>
          <a:stretch/>
        </p:blipFill>
        <p:spPr>
          <a:xfrm>
            <a:off x="6300720" y="2205000"/>
            <a:ext cx="2590920" cy="2168640"/>
          </a:xfrm>
          <a:prstGeom prst="rect">
            <a:avLst/>
          </a:prstGeom>
          <a:ln w="25560">
            <a:solidFill>
              <a:srgbClr val="cc6600"/>
            </a:solidFill>
            <a:miter/>
          </a:ln>
        </p:spPr>
      </p:pic>
      <p:pic>
        <p:nvPicPr>
          <p:cNvPr id="119" name="il_fi" descr="http://remeslo.ucoz.ua/_ph/1/2/605981540.jpg"/>
          <p:cNvPicPr/>
          <p:nvPr/>
        </p:nvPicPr>
        <p:blipFill>
          <a:blip r:embed="rId4"/>
          <a:stretch/>
        </p:blipFill>
        <p:spPr>
          <a:xfrm>
            <a:off x="179280" y="4437000"/>
            <a:ext cx="2602080" cy="2181240"/>
          </a:xfrm>
          <a:prstGeom prst="rect">
            <a:avLst/>
          </a:prstGeom>
          <a:ln w="25560">
            <a:solidFill>
              <a:srgbClr val="cc6600"/>
            </a:solidFill>
            <a:miter/>
          </a:ln>
        </p:spPr>
      </p:pic>
      <p:pic>
        <p:nvPicPr>
          <p:cNvPr id="120" name="il_fi" descr="http://terpug.at.ua/_ph/90/2/75898004.jpg"/>
          <p:cNvPicPr/>
          <p:nvPr/>
        </p:nvPicPr>
        <p:blipFill>
          <a:blip r:embed="rId5"/>
          <a:stretch/>
        </p:blipFill>
        <p:spPr>
          <a:xfrm>
            <a:off x="6300720" y="4581360"/>
            <a:ext cx="2638440" cy="1981440"/>
          </a:xfrm>
          <a:prstGeom prst="rect">
            <a:avLst/>
          </a:prstGeom>
          <a:ln w="25560">
            <a:solidFill>
              <a:srgbClr val="cc6600"/>
            </a:solidFill>
            <a:miter/>
          </a:ln>
        </p:spPr>
      </p:pic>
      <p:pic>
        <p:nvPicPr>
          <p:cNvPr id="121" name="p837297288" descr="http://remeslo.ucoz.ua/_ph/1/2/837297288.jpg"/>
          <p:cNvPicPr/>
          <p:nvPr/>
        </p:nvPicPr>
        <p:blipFill>
          <a:blip r:embed="rId6"/>
          <a:stretch/>
        </p:blipFill>
        <p:spPr>
          <a:xfrm>
            <a:off x="2700360" y="3141720"/>
            <a:ext cx="3670200" cy="2671560"/>
          </a:xfrm>
          <a:prstGeom prst="rect">
            <a:avLst/>
          </a:prstGeom>
          <a:ln w="25560">
            <a:solidFill>
              <a:srgbClr val="cc6600"/>
            </a:solidFill>
            <a:miter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il_fi" descr="http://remeslo.ucoz.ua/_ph/3/2/715593420.jpg"/>
          <p:cNvPicPr/>
          <p:nvPr/>
        </p:nvPicPr>
        <p:blipFill>
          <a:blip r:embed="rId2"/>
          <a:stretch/>
        </p:blipFill>
        <p:spPr>
          <a:xfrm>
            <a:off x="-241200" y="0"/>
            <a:ext cx="9385200" cy="703908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  <p:transition advTm="6000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Декоративні світильни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il_fi" descr="http://remeslo.ucoz.ua/_ph/3/2/219936383.jpg"/>
          <p:cNvPicPr/>
          <p:nvPr/>
        </p:nvPicPr>
        <p:blipFill>
          <a:blip r:embed="rId2"/>
          <a:stretch/>
        </p:blipFill>
        <p:spPr>
          <a:xfrm>
            <a:off x="0" y="0"/>
            <a:ext cx="4970520" cy="68580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90" name="il_fi" descr="http://remeslo.ucoz.ua/_ph/3/2/369828611.jpg"/>
          <p:cNvPicPr/>
          <p:nvPr/>
        </p:nvPicPr>
        <p:blipFill>
          <a:blip r:embed="rId3"/>
          <a:stretch/>
        </p:blipFill>
        <p:spPr>
          <a:xfrm>
            <a:off x="4440240" y="0"/>
            <a:ext cx="4703760" cy="68580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  <p:transition advTm="5000">
    <p:wedg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768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768" fill="hold"/>
                                        <p:tgtEl>
                                          <p:spTgt spid="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" dur="768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6" dur="768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il_fi" descr="http://www.myvin.com.ua/content/user_files/Image/2011news/09/2011_09_19_vut_02(1).jpg"/>
          <p:cNvPicPr/>
          <p:nvPr/>
        </p:nvPicPr>
        <p:blipFill>
          <a:blip r:embed="rId2"/>
          <a:stretch/>
        </p:blipFill>
        <p:spPr>
          <a:xfrm>
            <a:off x="0" y="0"/>
            <a:ext cx="9163080" cy="68580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  <p:transition advTm="5000"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il_fi" descr="http://remeslo.ucoz.ua/_ph/2/2/499619273.jpg"/>
          <p:cNvPicPr/>
          <p:nvPr/>
        </p:nvPicPr>
        <p:blipFill>
          <a:blip r:embed="rId2"/>
          <a:stretch/>
        </p:blipFill>
        <p:spPr>
          <a:xfrm>
            <a:off x="0" y="0"/>
            <a:ext cx="4800600" cy="68580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93" name="p420001755" descr="http://remeslo.ucoz.ua/_ph/1/2/420001755.jpg"/>
          <p:cNvPicPr/>
          <p:nvPr/>
        </p:nvPicPr>
        <p:blipFill>
          <a:blip r:embed="rId3"/>
          <a:stretch/>
        </p:blipFill>
        <p:spPr>
          <a:xfrm>
            <a:off x="4522680" y="0"/>
            <a:ext cx="4621320" cy="68580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  <p:transition advTm="5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il_fi" descr="http://baranovoschool.hmarka.net/fane2.jpg"/>
          <p:cNvPicPr/>
          <p:nvPr/>
        </p:nvPicPr>
        <p:blipFill>
          <a:blip r:embed="rId2"/>
          <a:stretch/>
        </p:blipFill>
        <p:spPr>
          <a:xfrm>
            <a:off x="0" y="0"/>
            <a:ext cx="4573440" cy="343044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95" name="Рисунок 34" descr="Лобзик"/>
          <p:cNvPicPr/>
          <p:nvPr/>
        </p:nvPicPr>
        <p:blipFill>
          <a:blip r:embed="rId3"/>
          <a:stretch/>
        </p:blipFill>
        <p:spPr>
          <a:xfrm>
            <a:off x="4572000" y="0"/>
            <a:ext cx="4573440" cy="343044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96" name="Рисунок 37" descr="Лобзик"/>
          <p:cNvPicPr/>
          <p:nvPr/>
        </p:nvPicPr>
        <p:blipFill>
          <a:blip r:embed="rId4"/>
          <a:stretch/>
        </p:blipFill>
        <p:spPr>
          <a:xfrm>
            <a:off x="0" y="3419640"/>
            <a:ext cx="4584600" cy="343836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97" name="il_fi" descr="http://akak.ru/recipes/pictures/000/014/804_big.jpg"/>
          <p:cNvPicPr/>
          <p:nvPr/>
        </p:nvPicPr>
        <p:blipFill>
          <a:blip r:embed="rId5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  <p:transition advTm="5000"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il_fi" descr="http://stat4.comby.ru/lr/3c7b6ee2ad96fead803bdd19b1070b72"/>
          <p:cNvPicPr/>
          <p:nvPr/>
        </p:nvPicPr>
        <p:blipFill>
          <a:blip r:embed="rId2"/>
          <a:stretch/>
        </p:blipFill>
        <p:spPr>
          <a:xfrm>
            <a:off x="3419640" y="0"/>
            <a:ext cx="5724360" cy="68580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pic>
        <p:nvPicPr>
          <p:cNvPr id="99" name="il_fi" descr="http://kovtunenko.at.ua/Lobzik/Vaza.JPG"/>
          <p:cNvPicPr/>
          <p:nvPr/>
        </p:nvPicPr>
        <p:blipFill>
          <a:blip r:embed="rId3"/>
          <a:stretch/>
        </p:blipFill>
        <p:spPr>
          <a:xfrm>
            <a:off x="0" y="0"/>
            <a:ext cx="4178160" cy="68580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  <p:transition advTm="5000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291054645" descr="http://remeslo.ucoz.ua/_ph/1/2/291054645.jpg"/>
          <p:cNvPicPr/>
          <p:nvPr/>
        </p:nvPicPr>
        <p:blipFill>
          <a:blip r:embed="rId2"/>
          <a:stretch/>
        </p:blipFill>
        <p:spPr>
          <a:xfrm>
            <a:off x="0" y="-208080"/>
            <a:ext cx="9396360" cy="706608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</p:spTree>
  </p:cSld>
  <p:transition advTm="5000">
    <p:strips dir="r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03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31T22:11:04Z</dcterms:created>
  <dc:creator>User</dc:creator>
  <dc:description/>
  <dc:language>en-US</dc:language>
  <cp:lastModifiedBy>User</cp:lastModifiedBy>
  <dcterms:modified xsi:type="dcterms:W3CDTF">2004-12-31T23:14:51Z</dcterms:modified>
  <cp:revision>7</cp:revision>
  <dc:subject/>
  <dc:title>  Зразки виробів  виготовлених технікою ажурного випилювання</dc:title>
</cp:coreProperties>
</file>